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B32-FED2-475B-99EB-0D64E704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F5F7-2A5D-4C64-B576-CBAD8F72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23A9-5513-422A-8456-7CB0F537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E9C0-5B01-4021-91E0-B51508E0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AAC7-B1AF-4F49-AA9A-2317A244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A7C0-AF58-4E77-8C6D-D3E30BFD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2896-A806-4EB1-8BDB-9587937A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2197-E86E-4AA2-B142-43A8C94D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F64F-2089-414C-AC04-FF0B62EB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63B9-A629-4FD7-AAE7-DCCB3551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41D6-F7FD-4EE2-8CB7-BC90A0B3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EDA-1428-4519-BD3A-8E5AAD0F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94B1-088A-4EBF-ABE8-7EBBD861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EA77-4AFF-4700-95AF-F404EE15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70AD-D490-42E1-B520-DA58C05C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DD4D-7513-4CEF-9578-F332D39C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0344-1990-480E-A738-F34E773A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E95-4F8F-4D1B-BC45-00F00315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C45-0560-40B1-B580-DE980E71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26D-7389-4F23-81AD-5AB686F3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8341-B738-4B7A-9485-DB7AF55F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BD76-69EB-4EA6-ADD4-649D6415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118A-1626-410C-A7BC-FBDD24E0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76E-47C0-4172-9409-ED3BAC0A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4701-6527-4DA9-BD2F-6F1526AD99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E819-2971-4BBF-B33E-D71286C5FD2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Marketing Strategy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y of goals and objecti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er’s Economic Theory of Profit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rriers to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t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titut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Marketing Strategy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Challenger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al At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-innovate 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ugh to do, easier to def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nking/Bypass At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ack where leader is not lo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 new market seg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ce Discount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yers are sensitive to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s if leader does not cut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Marketing Strategy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Challenger Strategies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aper Good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quality but much lower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ulnerable to still cheaper g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tige Good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both quality and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Marketing Strategy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Follower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cious Paralle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products, pr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unprofitable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N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ize in a very small group of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ntrated segmentation strategy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Marketing Strategy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2971800"/>
            <a:ext cx="1676160" cy="2057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3048120"/>
            <a:ext cx="1295640" cy="16002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tta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small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2560" y="3276720"/>
            <a:ext cx="10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f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igg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4114800"/>
            <a:ext cx="1143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e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8862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657240" y="35053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657240" y="434340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0" y="2819520"/>
            <a:ext cx="99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em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e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49440" y="441972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eroffens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388620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5840" y="3124080"/>
            <a:ext cx="102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e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38680" y="259092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209320" y="2590920"/>
            <a:ext cx="3429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6320" y="2057400"/>
            <a:ext cx="14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anking Defe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647960" y="5029200"/>
            <a:ext cx="53316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257440" y="5029200"/>
            <a:ext cx="22860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502920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240" y="518148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bile Defe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4648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525780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89840" y="556272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ank At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4760" y="342900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40384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72160" y="403848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905120" y="190476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1905120"/>
            <a:ext cx="5257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62920" y="1905120"/>
            <a:ext cx="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553080" y="29718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1600200"/>
            <a:ext cx="173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circ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4648320"/>
            <a:ext cx="0" cy="1447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6095880"/>
            <a:ext cx="5486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51960" y="618336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p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46483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276720" y="4952880"/>
            <a:ext cx="160020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98960" y="472428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erilla At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eMarketing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27880" y="1935000"/>
            <a:ext cx="682668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Marketing anything ne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just an adaptation of existing strate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ability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to identify customer prior to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ers could always do th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hy is web different?  Is it more efficient…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if you do not delete your cookies…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they keep extensive files on you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eMarketing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34640" y="2098800"/>
            <a:ext cx="662868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vity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s can express their needs and wa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ly to the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ers could always do this too.  So what is n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other efficiency argument…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to access individual customer pro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purchase his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probably valid.  Information existed before 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s hard to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eMarketing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3560" y="1752480"/>
            <a:ext cx="78066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’s ability to control flow and sequence of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ll versus push medium…web versus televi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o control’s the fl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ely an eMarketing characteristic, but a two-edged swo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?  Customers control the flow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ibility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to obtain information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ing info from the Internet is like trying to drink 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hose.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ould always do this, web may be eas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ome us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eMarketing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08800" y="2098800"/>
            <a:ext cx="740448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ilization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the product or benefits be represented digitall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the media match the product’s attribu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oblem for all media…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does eMarketing exist?  Maybe, or maybe it is ju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information flow/distribution system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 designing a marketing strategy to me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needs…(and maximize profi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Marketing Strategy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r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l versus Absolut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Marketing Strategy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ic Marketing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Lead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costs of production and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que product or b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 on customer needs in a few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Marketing Strategy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business are you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ment of marketing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on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product, market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s growth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s differential adva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s management ori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Marketing Strategy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Mix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penetration versus market 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3352680"/>
            <a:ext cx="25146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3526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33526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4038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4724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36280" y="3897360"/>
            <a:ext cx="7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2160" y="365760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2670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3240" y="487692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6400" y="58672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4280" y="548640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548640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1520" y="54864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0920" y="3429000"/>
            <a:ext cx="83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m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o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3429000"/>
            <a:ext cx="7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netr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3429000"/>
            <a:ext cx="74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rg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6880" y="4114800"/>
            <a:ext cx="6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ve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20440" y="4114800"/>
            <a:ext cx="78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41911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rg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4800600"/>
            <a:ext cx="71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t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4600" y="4800600"/>
            <a:ext cx="7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d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o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440" y="4800600"/>
            <a:ext cx="6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e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o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Marketing Strategy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Market Growth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2895480"/>
            <a:ext cx="18288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Market Pene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ncrease us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895480"/>
            <a:ext cx="18288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roduc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new u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4343400"/>
            <a:ext cx="18288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Marke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new us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343400"/>
            <a:ext cx="18288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Diver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new users, new u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4320" y="408924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4680" y="62229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9520" y="34290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5160" y="58672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5000" y="48769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5400" y="586728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Marketing Strategy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ston Consulting Group Strate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ve Market Sh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Growth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 with BCG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icult to estimate relative market share in rapidly growing mar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Marketing Strategy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G Matrix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2895480"/>
            <a:ext cx="19051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</a:rPr>
              <a:t>St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me cash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ture cash c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4495680"/>
            <a:ext cx="19051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</a:rPr>
              <a:t>Cash C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nerate cash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?, St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4495680"/>
            <a:ext cx="19051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</a:rPr>
              <a:t>Do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w or no cash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to div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895480"/>
            <a:ext cx="19051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 cash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? Is to build or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63244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ative Market S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75080" y="610704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760" y="60958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.5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60958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1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7280" y="6095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log sca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1880" y="435456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ket Grow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4080" y="27432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4080" y="4343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4800" y="586728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4191120"/>
            <a:ext cx="0" cy="609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038480" y="350532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5105520"/>
            <a:ext cx="6858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Marketing Strategy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Leader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Size of Total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-Market Growth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 Mar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rtment of brands, si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t defense is a good off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eroff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Marketing Strategy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Leader Strategies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Mar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itrust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41911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55627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4419720"/>
            <a:ext cx="1905120" cy="1168200"/>
          </a:xfrm>
          <a:custGeom>
            <a:avLst/>
            <a:gdLst/>
            <a:ahLst/>
            <a:rect l="l" t="t" r="r" b="b"/>
            <a:pathLst>
              <a:path w="1200" h="736">
                <a:moveTo>
                  <a:pt x="0" y="728"/>
                </a:moveTo>
                <a:cubicBezTo>
                  <a:pt x="128" y="732"/>
                  <a:pt x="256" y="736"/>
                  <a:pt x="384" y="632"/>
                </a:cubicBezTo>
                <a:cubicBezTo>
                  <a:pt x="512" y="528"/>
                  <a:pt x="632" y="208"/>
                  <a:pt x="768" y="104"/>
                </a:cubicBezTo>
                <a:cubicBezTo>
                  <a:pt x="904" y="0"/>
                  <a:pt x="1120" y="24"/>
                  <a:pt x="1200" y="8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64880" y="465948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ket S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1360" y="579132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keting Effort ($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26708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Guru</cp:lastModifiedBy>
  <dcterms:modified xsi:type="dcterms:W3CDTF">2010-01-06T11:35:04Z</dcterms:modified>
  <cp:revision>0</cp:revision>
  <dc:subject/>
  <dc:title>Marketing Strategy</dc:title>
</cp:coreProperties>
</file>